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35A-8BCC-4654-B681-09012382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FFC-F4E0-44CC-B481-D530C44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ED7-3E10-41B5-A09F-44470DE8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9D2-E2F8-4587-8046-0AB81D8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443-DA11-4318-9FDF-01EA716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B18-970C-473E-ADCE-8914707D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826-8E94-4C31-809F-868435A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B59-EF15-4677-87D8-C8FB626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2E4-01A3-4364-9262-02F2CAA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8CC-8D46-4E81-BDEF-F645F13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D30-3750-4347-922C-0897C34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E92-2B0C-410A-80DC-0B798A8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ocionek – Klebsch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8B0DD025-45EF-455B-B671-CA1ACC8459BE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, Karsten Rudol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tatus „PLM Excellenc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U2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From Proto-Agile to Full Ag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1D1-F6FE-4E9D-B76E-7513DF4EE4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559400" y="2257560"/>
            <a:ext cx="4262400" cy="40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nsition backlog reviewd, prioritization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contract, team and schedule and with Object Mentors agr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:: first 4 Scrum teams in WRO finished their sprint with excellent results (high motivation, good achievements, positive experience and results with TDD by Unit test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poxi: first Scrum teams started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transition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and implement Scrum based requirement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detailed training schedule and content with 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etup Scrum teams in MCH and increase number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11D-1230-4D8D-88D3-0BAD074242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460600"/>
            <a:ext cx="417852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U2 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dicated U2 project control room established in MCH (E3.Rotunde 2nd flo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8E6-9689-4B28-956E-A24C8496768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arsten Rudolph</cp:lastModifiedBy>
  <dcterms:modified xsi:type="dcterms:W3CDTF">2006-03-20T11:27:14Z</dcterms:modified>
  <cp:revision>348</cp:revision>
  <dc:subject/>
  <dc:title>PowerPoint 簡報</dc:title>
</cp:coreProperties>
</file>